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4.png" ContentType="image/png"/>
  <Override PartName="/ppt/media/image34.png" ContentType="image/png"/>
  <Override PartName="/ppt/media/image17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01F-6C60-49AE-8F9B-254C7E6A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DF4-9AFB-4C52-98B3-3810D76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2B4-FA22-4887-958B-D2B6DE50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63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808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63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808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F61-A699-4261-940B-DED27756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16A5-B684-4CA1-9AD6-17DA4744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FC8-5AD1-4041-BC37-875A59A9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B8AB-6691-481C-B0D3-E6E19B6D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C25-1829-49CE-A524-B40A8D7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2198-4C79-4700-B004-FDA9F925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4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8FF6-0CE3-4C5B-9829-66888C59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C24C-D53F-4DD7-B08D-DAB3539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508-8040-4CBC-95ED-50CA3C9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CADC-7242-4E3B-93AD-423916A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43F9-65EA-4535-A47D-0DED19A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C724-9AFA-4E1B-8CF2-17B0D10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AA15-234F-469E-9729-4CCD6DF7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2632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48080" y="198108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049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2632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148080" y="4130640"/>
            <a:ext cx="2782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2067-01AF-4166-9C31-5E64B763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1C1-A93A-49B3-A5AF-C0B44D8D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189-F6D2-48FC-B9AC-6C5FCBB0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6BA-F349-438B-9FF1-42AC3829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848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F39-1DF4-4E0D-9F98-F2549D4F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0AA-A2B3-4952-AB61-CDDA5F6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2560" y="413064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471-25B2-456D-B4A2-ECEAAF1F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2560" y="1981080"/>
            <a:ext cx="421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130640"/>
            <a:ext cx="864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CE3-AB64-4622-987C-33D11CF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A3F-8A30-480C-B5F4-E3084D92004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4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fc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fc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fc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DFAA-4C41-401D-84B4-09DC47FC093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icmc.usp.br/~rtvb/GRENFramework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988200"/>
            <a:ext cx="8323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N-Wizard: a Tool to Instantiate the GREN Framewor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osana Teresinha Vaccare B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aulo Cesar Mas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CMC-US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: Instituto de Ciências Matemáticas e de Computação – Universidade de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arlos – SP – Braz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5943600"/>
            <a:ext cx="4295520" cy="700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5996160"/>
            <a:ext cx="819000" cy="752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934320" y="6259680"/>
            <a:ext cx="1962000" cy="455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086600" y="5362560"/>
            <a:ext cx="1676520" cy="766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4160" y="304920"/>
            <a:ext cx="88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essão de Ferramentas – Simpósio Brasileiro de Engenharia de Softwar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REN- A framework for Business Resource Manage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ased on the GRN patter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Visualworks Smalltalk 5i.4 NC/ 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k 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The GREN framework: built to support the GRN pattern langu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9840" y="1066680"/>
          <a:ext cx="899172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1066680"/>
                    <a:ext cx="899172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stantiation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apt the framework to specific applications, obtaining an executa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ign of the application is implicit in the framework: as patterns are chosen, their design is automatically re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instan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white-box version of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wi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GREN-Wiza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N-Wizard is a tool to support the GREN instant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design allows users only to know the GRN Pattern Language in order to obtain the Smalltalk code for their specific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3560" y="45684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llustration of the GREN-Wizard Strucut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93680" y="1754280"/>
            <a:ext cx="7243560" cy="4679640"/>
            <a:chOff x="1093680" y="1754280"/>
            <a:chExt cx="7243560" cy="4679640"/>
          </a:xfrm>
        </p:grpSpPr>
        <p:grpSp>
          <p:nvGrpSpPr>
            <p:cNvPr id="267" name=""/>
            <p:cNvGrpSpPr/>
            <p:nvPr/>
          </p:nvGrpSpPr>
          <p:grpSpPr>
            <a:xfrm>
              <a:off x="4426560" y="1754280"/>
              <a:ext cx="375480" cy="1022760"/>
              <a:chOff x="4426560" y="1754280"/>
              <a:chExt cx="375480" cy="1022760"/>
            </a:xfrm>
          </p:grpSpPr>
          <p:sp>
            <p:nvSpPr>
              <p:cNvPr id="268" name=""/>
              <p:cNvSpPr/>
              <p:nvPr/>
            </p:nvSpPr>
            <p:spPr>
              <a:xfrm>
                <a:off x="4466520" y="1754280"/>
                <a:ext cx="335520" cy="358560"/>
              </a:xfrm>
              <a:prstGeom prst="smileyFace">
                <a:avLst>
                  <a:gd name="adj" fmla="val 928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23840" y="2114280"/>
                <a:ext cx="0" cy="50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426560" y="2368080"/>
                <a:ext cx="197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20240" y="2368080"/>
                <a:ext cx="169920" cy="18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4438080" y="2595240"/>
                <a:ext cx="197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32120" y="2595240"/>
                <a:ext cx="169920" cy="18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149280" y="4946040"/>
              <a:ext cx="1665720" cy="1459080"/>
            </a:xfrm>
            <a:prstGeom prst="can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RN Pattern Langu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(D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1520" y="3259080"/>
              <a:ext cx="1435320" cy="1450440"/>
            </a:xfrm>
            <a:prstGeom prst="can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Specific appli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(D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3680" y="2784960"/>
              <a:ext cx="1701360" cy="10044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REN-Wizard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847960" y="2368080"/>
              <a:ext cx="1541880" cy="7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2103480" y="3864960"/>
              <a:ext cx="939240" cy="15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65960" y="3694680"/>
              <a:ext cx="58464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47680" y="4964760"/>
              <a:ext cx="1789560" cy="1469160"/>
            </a:xfrm>
            <a:prstGeom prst="can">
              <a:avLst>
                <a:gd name="adj" fmla="val 250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apping between GRN and GR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(D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28040" y="2178360"/>
              <a:ext cx="163008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atterns appl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8920" y="3183120"/>
              <a:ext cx="1967040" cy="10044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REN-Wizard Code-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86280" y="2387160"/>
              <a:ext cx="1470960" cy="64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35640" y="2140560"/>
              <a:ext cx="2091240" cy="49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pplication Cla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010480" y="3903120"/>
              <a:ext cx="442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886280" y="4320360"/>
              <a:ext cx="1523880" cy="11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6977880" y="4301280"/>
              <a:ext cx="31896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eta-model for GRN pattern languag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200" y="-360"/>
            <a:ext cx="84884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eta-model for GRN pattern languag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-270000" y="927000"/>
            <a:ext cx="94140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ample: CDTE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DTECA is a very simple application to allow you to control the CDs you lend to you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ou register all your CDs, supplying, for each one, who is the singer and the C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ou register your friends names and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hen you lend a CD, you register the expected date for your friend to retur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You can see some reports, for example, of CDs that were not returned and of CDs that are more frequently l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1280" y="0"/>
            <a:ext cx="8802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Analysis model for the CDTeca using the GRN pattern Languag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38120" y="949320"/>
            <a:ext cx="758052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ory of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atterns/Variants applied</a:t>
            </a: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63600" y="2631960"/>
            <a:ext cx="99633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Introduction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The GRN pattern language and its associated framework (G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The GREN-Wi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  <a:ea typeface="Arial"/>
              </a:rPr>
              <a:t>Concluding r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68320" y="122400"/>
            <a:ext cx="754848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92120" y="1773360"/>
            <a:ext cx="82882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460440"/>
            <a:ext cx="82659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0" t="0" r="23619" b="22050"/>
          <a:stretch/>
        </p:blipFill>
        <p:spPr>
          <a:xfrm>
            <a:off x="484200" y="268200"/>
            <a:ext cx="8055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844560" y="299880"/>
            <a:ext cx="74754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46120" y="378000"/>
            <a:ext cx="7602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46120" y="378000"/>
            <a:ext cx="767232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47680" y="282600"/>
            <a:ext cx="3054240" cy="17571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45080" y="318960"/>
            <a:ext cx="3409920" cy="1935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14320" y="2579760"/>
            <a:ext cx="68169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125360" y="60480"/>
            <a:ext cx="687564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147680" y="701640"/>
            <a:ext cx="6434280" cy="4794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724040" y="1363680"/>
            <a:ext cx="1371600" cy="1171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230560" y="1370160"/>
            <a:ext cx="2736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Introduction and Motiv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tern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complexity to build and use frame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65120" y="1015920"/>
            <a:ext cx="81820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03120" y="12600"/>
            <a:ext cx="832176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rcRect l="0" t="0" r="33284" b="18963"/>
          <a:stretch/>
        </p:blipFill>
        <p:spPr>
          <a:xfrm>
            <a:off x="785880" y="249120"/>
            <a:ext cx="700236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ding Remark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ol here proposed intends to ease framework instantiation using pattern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s built using our approach have its architecture influenced by the pattern language which eases the creation of a tool to automate its instant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knowing the framework implementation details, users basically need to know about the pattern language usage in order to instantiate the fra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ding Remarks (ctd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N-wizard guides the user throughout the GRN pattern language, guaranteeing that the correct paths are followed and making the consistency to check whether the applied patterns make se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antiation is focused on the functionality required, with a clear notion of which requirements are attended by each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ding Remarks (ctd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rationale used to build the GREN-Wizard can be used to develop tools for other frameworks that have an associated pattern language, since the idea is gener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 that the wizard uses a database to hold the definition of each pattern eases its adaptation to other fram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o:      masiero@icmc.usp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ana:   rtvb@icmc.usp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S (Software Engineering Lab at ICMC-USP) http://nt-labes.icmc.usp.br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ortuguese 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N WEB sit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icmc.usp.br/~rtvb/GRENFramework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Introduction and Motiv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between frameworks and pattern langu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languages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the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framework design and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instantiation of the framework into a concret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ach to develop a framework from a pattern langua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this pattern language to instantiate the framework to specific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3000" y="1066680"/>
            <a:ext cx="3515400" cy="2362320"/>
            <a:chOff x="63000" y="1066680"/>
            <a:chExt cx="3515400" cy="2362320"/>
          </a:xfrm>
        </p:grpSpPr>
        <p:sp>
          <p:nvSpPr>
            <p:cNvPr id="121" name=""/>
            <p:cNvSpPr/>
            <p:nvPr/>
          </p:nvSpPr>
          <p:spPr>
            <a:xfrm>
              <a:off x="228600" y="1523880"/>
              <a:ext cx="2209680" cy="190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00" y="10666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Linguagem de padr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19120" y="1600200"/>
              <a:ext cx="1614240" cy="1752120"/>
              <a:chOff x="519120" y="1600200"/>
              <a:chExt cx="1614240" cy="1752120"/>
            </a:xfrm>
          </p:grpSpPr>
          <p:sp>
            <p:nvSpPr>
              <p:cNvPr id="124" name=""/>
              <p:cNvSpPr/>
              <p:nvPr/>
            </p:nvSpPr>
            <p:spPr>
              <a:xfrm>
                <a:off x="817920" y="1600200"/>
                <a:ext cx="35856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8400" y="21009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8280" y="303984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36600" y="21009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74800" y="21009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9120" y="2538720"/>
                <a:ext cx="358560" cy="31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6840" y="260136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55280" y="2851920"/>
                <a:ext cx="358560" cy="31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P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877320" y="1913040"/>
                <a:ext cx="11916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57320" y="1913040"/>
                <a:ext cx="29880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76840" y="1787760"/>
                <a:ext cx="837360" cy="31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698040" y="2413800"/>
                <a:ext cx="11916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296000" y="2413800"/>
                <a:ext cx="11916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877320" y="2413800"/>
                <a:ext cx="119160" cy="62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1894320" y="2413800"/>
                <a:ext cx="5976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415880" y="2914200"/>
                <a:ext cx="23904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996840" y="3164760"/>
                <a:ext cx="89676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95520" y="2225880"/>
                <a:ext cx="1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3505320" y="1219320"/>
            <a:ext cx="5333760" cy="2286000"/>
            <a:chOff x="3505320" y="1219320"/>
            <a:chExt cx="5333760" cy="2286000"/>
          </a:xfrm>
        </p:grpSpPr>
        <p:grpSp>
          <p:nvGrpSpPr>
            <p:cNvPr id="143" name=""/>
            <p:cNvGrpSpPr/>
            <p:nvPr/>
          </p:nvGrpSpPr>
          <p:grpSpPr>
            <a:xfrm>
              <a:off x="6172200" y="1219320"/>
              <a:ext cx="2666880" cy="2286000"/>
              <a:chOff x="6172200" y="1219320"/>
              <a:chExt cx="2666880" cy="2286000"/>
            </a:xfrm>
          </p:grpSpPr>
          <p:sp>
            <p:nvSpPr>
              <p:cNvPr id="144" name=""/>
              <p:cNvSpPr/>
              <p:nvPr/>
            </p:nvSpPr>
            <p:spPr>
              <a:xfrm>
                <a:off x="6172200" y="1676520"/>
                <a:ext cx="2666880" cy="18288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25160" y="12193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Framew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6" name=""/>
              <p:cNvGraphicFramePr/>
              <p:nvPr/>
            </p:nvGraphicFramePr>
            <p:xfrm>
              <a:off x="6324480" y="1828800"/>
              <a:ext cx="2432160" cy="1476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324480" y="1828800"/>
                        <a:ext cx="2432160" cy="147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8" name=""/>
            <p:cNvSpPr/>
            <p:nvPr/>
          </p:nvSpPr>
          <p:spPr>
            <a:xfrm>
              <a:off x="3505320" y="2286000"/>
              <a:ext cx="1752480" cy="533520"/>
            </a:xfrm>
            <a:prstGeom prst="rightArrow">
              <a:avLst>
                <a:gd name="adj1" fmla="val 50000"/>
                <a:gd name="adj2" fmla="val 821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79680" y="2895480"/>
            <a:ext cx="5364360" cy="2514600"/>
            <a:chOff x="1579680" y="2895480"/>
            <a:chExt cx="5364360" cy="2514600"/>
          </a:xfrm>
        </p:grpSpPr>
        <p:sp>
          <p:nvSpPr>
            <p:cNvPr id="150" name=""/>
            <p:cNvSpPr/>
            <p:nvPr/>
          </p:nvSpPr>
          <p:spPr>
            <a:xfrm flipH="1" rot="10740000">
              <a:off x="1590480" y="3581280"/>
              <a:ext cx="1152360" cy="1236960"/>
            </a:xfrm>
            <a:custGeom>
              <a:avLst/>
              <a:gdLst>
                <a:gd name="textAreaLeft" fmla="*/ 0 w 1152360"/>
                <a:gd name="textAreaRight" fmla="*/ 1152360 w 1152360"/>
                <a:gd name="textAreaTop" fmla="*/ 0 h 1236960"/>
                <a:gd name="textAreaBottom" fmla="*/ 1237320 h 12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860000">
              <a:off x="5781240" y="3733560"/>
              <a:ext cx="1152720" cy="114300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124080" y="2895480"/>
              <a:ext cx="2300400" cy="2514600"/>
              <a:chOff x="3124080" y="2895480"/>
              <a:chExt cx="2300400" cy="2514600"/>
            </a:xfrm>
          </p:grpSpPr>
          <p:sp>
            <p:nvSpPr>
              <p:cNvPr id="153" name=""/>
              <p:cNvSpPr/>
              <p:nvPr/>
            </p:nvSpPr>
            <p:spPr>
              <a:xfrm>
                <a:off x="3124080" y="3352680"/>
                <a:ext cx="2300400" cy="20574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35000" y="2895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Wiza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3505320"/>
                <a:ext cx="2133720" cy="1792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6" name=""/>
          <p:cNvSpPr/>
          <p:nvPr/>
        </p:nvSpPr>
        <p:spPr>
          <a:xfrm flipH="1" rot="10740000">
            <a:off x="4267080" y="5563080"/>
            <a:ext cx="1152720" cy="914040"/>
          </a:xfrm>
          <a:custGeom>
            <a:avLst/>
            <a:gdLst>
              <a:gd name="textAreaLeft" fmla="*/ 360 w 1152720"/>
              <a:gd name="textAreaRight" fmla="*/ 1153440 w 115272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15000" y="3938400"/>
            <a:ext cx="3306600" cy="2843280"/>
            <a:chOff x="5715000" y="3938400"/>
            <a:chExt cx="3306600" cy="2843280"/>
          </a:xfrm>
        </p:grpSpPr>
        <p:grpSp>
          <p:nvGrpSpPr>
            <p:cNvPr id="158" name=""/>
            <p:cNvGrpSpPr/>
            <p:nvPr/>
          </p:nvGrpSpPr>
          <p:grpSpPr>
            <a:xfrm>
              <a:off x="5715000" y="5791320"/>
              <a:ext cx="3306600" cy="990360"/>
              <a:chOff x="5715000" y="5791320"/>
              <a:chExt cx="3306600" cy="9903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5715000" y="5791320"/>
                <a:ext cx="1600200" cy="990360"/>
                <a:chOff x="5715000" y="5791320"/>
                <a:chExt cx="1600200" cy="990360"/>
              </a:xfrm>
            </p:grpSpPr>
            <p:pic>
              <p:nvPicPr>
                <p:cNvPr id="1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715000" y="5791320"/>
                  <a:ext cx="160020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825160" y="591048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2" name=""/>
              <p:cNvSpPr/>
              <p:nvPr/>
            </p:nvSpPr>
            <p:spPr>
              <a:xfrm>
                <a:off x="7317000" y="5867280"/>
                <a:ext cx="170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Sistem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Específi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rot="1648200">
              <a:off x="7543440" y="3962520"/>
              <a:ext cx="533520" cy="1752480"/>
            </a:xfrm>
            <a:prstGeom prst="downArrow">
              <a:avLst>
                <a:gd name="adj1" fmla="val 50000"/>
                <a:gd name="adj2" fmla="val 821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29000" y="76320"/>
            <a:ext cx="3352680" cy="2361960"/>
            <a:chOff x="3429000" y="76320"/>
            <a:chExt cx="3352680" cy="2361960"/>
          </a:xfrm>
        </p:grpSpPr>
        <p:sp>
          <p:nvSpPr>
            <p:cNvPr id="165" name=""/>
            <p:cNvSpPr/>
            <p:nvPr/>
          </p:nvSpPr>
          <p:spPr>
            <a:xfrm>
              <a:off x="3429000" y="76320"/>
              <a:ext cx="3352680" cy="2361960"/>
            </a:xfrm>
            <a:prstGeom prst="cloudCallout">
              <a:avLst>
                <a:gd name="adj1" fmla="val 59657"/>
                <a:gd name="adj2" fmla="val 7459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6080" y="15998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Design Patter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4343400" y="304560"/>
              <a:ext cx="1752480" cy="136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2819520" y="304920"/>
            <a:ext cx="3352680" cy="2361960"/>
            <a:chOff x="2819520" y="304920"/>
            <a:chExt cx="3352680" cy="2361960"/>
          </a:xfrm>
        </p:grpSpPr>
        <p:sp>
          <p:nvSpPr>
            <p:cNvPr id="169" name=""/>
            <p:cNvSpPr/>
            <p:nvPr/>
          </p:nvSpPr>
          <p:spPr>
            <a:xfrm>
              <a:off x="2819520" y="304920"/>
              <a:ext cx="3352680" cy="2361960"/>
            </a:xfrm>
            <a:prstGeom prst="cloudCallout">
              <a:avLst>
                <a:gd name="adj1" fmla="val -36365"/>
                <a:gd name="adj2" fmla="val 8380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4080" y="762120"/>
              <a:ext cx="281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Mapping between Analysis and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666880" y="76320"/>
            <a:ext cx="3353040" cy="2361960"/>
            <a:chOff x="2666880" y="76320"/>
            <a:chExt cx="3353040" cy="2361960"/>
          </a:xfrm>
        </p:grpSpPr>
        <p:sp>
          <p:nvSpPr>
            <p:cNvPr id="172" name=""/>
            <p:cNvSpPr/>
            <p:nvPr/>
          </p:nvSpPr>
          <p:spPr>
            <a:xfrm>
              <a:off x="2666880" y="76320"/>
              <a:ext cx="3353040" cy="2361960"/>
            </a:xfrm>
            <a:prstGeom prst="cloudCallout">
              <a:avLst>
                <a:gd name="adj1" fmla="val -57717"/>
                <a:gd name="adj2" fmla="val 6115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974320" y="685800"/>
              <a:ext cx="2853360" cy="1245600"/>
              <a:chOff x="2974320" y="685800"/>
              <a:chExt cx="2853360" cy="1245600"/>
            </a:xfrm>
          </p:grpSpPr>
          <p:pic>
            <p:nvPicPr>
              <p:cNvPr id="17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47760" y="685800"/>
                <a:ext cx="277992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974320" y="1471680"/>
                <a:ext cx="273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Arial"/>
                  </a:rPr>
                  <a:t>Analysis Patter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 rot="1770600">
            <a:off x="495000" y="5029200"/>
            <a:ext cx="3538440" cy="981000"/>
          </a:xfrm>
          <a:prstGeom prst="rightArrow">
            <a:avLst>
              <a:gd name="adj1" fmla="val 29593"/>
              <a:gd name="adj2" fmla="val 884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5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4320" y="304560"/>
            <a:ext cx="8793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pproach for Framework Construction and Instanti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17600" y="3048120"/>
            <a:ext cx="6232680" cy="2954160"/>
            <a:chOff x="2217600" y="3048120"/>
            <a:chExt cx="6232680" cy="2954160"/>
          </a:xfrm>
        </p:grpSpPr>
        <p:grpSp>
          <p:nvGrpSpPr>
            <p:cNvPr id="181" name=""/>
            <p:cNvGrpSpPr/>
            <p:nvPr/>
          </p:nvGrpSpPr>
          <p:grpSpPr>
            <a:xfrm>
              <a:off x="5799240" y="4683240"/>
              <a:ext cx="2651040" cy="1319040"/>
              <a:chOff x="5799240" y="4683240"/>
              <a:chExt cx="2651040" cy="1319040"/>
            </a:xfrm>
          </p:grpSpPr>
          <p:sp>
            <p:nvSpPr>
              <p:cNvPr id="182" name=""/>
              <p:cNvSpPr/>
              <p:nvPr/>
            </p:nvSpPr>
            <p:spPr>
              <a:xfrm>
                <a:off x="7861320" y="5732640"/>
                <a:ext cx="58896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Wiz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832880" y="565920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99240" y="46832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03800" y="4683240"/>
                <a:ext cx="0" cy="12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03800" y="5942160"/>
                <a:ext cx="17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17600" y="3048120"/>
              <a:ext cx="3581640" cy="2278080"/>
              <a:chOff x="2217600" y="3048120"/>
              <a:chExt cx="3581640" cy="2278080"/>
            </a:xfrm>
          </p:grpSpPr>
          <p:sp>
            <p:nvSpPr>
              <p:cNvPr id="188" name=""/>
              <p:cNvSpPr/>
              <p:nvPr/>
            </p:nvSpPr>
            <p:spPr>
              <a:xfrm>
                <a:off x="2217600" y="3048120"/>
                <a:ext cx="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91080" y="4950000"/>
                <a:ext cx="113184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67400" y="3732120"/>
                <a:ext cx="674640" cy="28584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25840" y="4173480"/>
                <a:ext cx="1373400" cy="6271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Wiz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Develop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17600" y="4722840"/>
                <a:ext cx="222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573440" y="4800240"/>
                <a:ext cx="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93920" y="4799160"/>
                <a:ext cx="134604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attern 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7920" y="1143000"/>
            <a:ext cx="3436920" cy="1935000"/>
            <a:chOff x="7920" y="1143000"/>
            <a:chExt cx="3436920" cy="1935000"/>
          </a:xfrm>
        </p:grpSpPr>
        <p:grpSp>
          <p:nvGrpSpPr>
            <p:cNvPr id="196" name=""/>
            <p:cNvGrpSpPr/>
            <p:nvPr/>
          </p:nvGrpSpPr>
          <p:grpSpPr>
            <a:xfrm>
              <a:off x="7920" y="1143000"/>
              <a:ext cx="2514600" cy="1876320"/>
              <a:chOff x="7920" y="1143000"/>
              <a:chExt cx="2514600" cy="1876320"/>
            </a:xfrm>
          </p:grpSpPr>
          <p:sp>
            <p:nvSpPr>
              <p:cNvPr id="197" name=""/>
              <p:cNvSpPr/>
              <p:nvPr/>
            </p:nvSpPr>
            <p:spPr>
              <a:xfrm>
                <a:off x="7920" y="2503440"/>
                <a:ext cx="62856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pecifi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2120" y="2252520"/>
                <a:ext cx="1303200" cy="7668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Pattern Language Develop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9920" y="1676520"/>
                <a:ext cx="118260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Experience in a specific dom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920" y="2503440"/>
                <a:ext cx="75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63600" y="1623960"/>
                <a:ext cx="0" cy="6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12680" y="1143000"/>
                <a:ext cx="671760" cy="36360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064960" y="2187720"/>
              <a:ext cx="1379880" cy="890280"/>
              <a:chOff x="2064960" y="2187720"/>
              <a:chExt cx="1379880" cy="8902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97000" y="2187720"/>
                <a:ext cx="134784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attern 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20840" y="3078000"/>
                <a:ext cx="3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217600" y="24382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064960" y="2438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2217600" y="1844640"/>
            <a:ext cx="6545520" cy="2037960"/>
            <a:chOff x="2217600" y="1844640"/>
            <a:chExt cx="6545520" cy="2037960"/>
          </a:xfrm>
        </p:grpSpPr>
        <p:grpSp>
          <p:nvGrpSpPr>
            <p:cNvPr id="209" name=""/>
            <p:cNvGrpSpPr/>
            <p:nvPr/>
          </p:nvGrpSpPr>
          <p:grpSpPr>
            <a:xfrm>
              <a:off x="8008920" y="3005280"/>
              <a:ext cx="754200" cy="376200"/>
              <a:chOff x="8008920" y="3005280"/>
              <a:chExt cx="754200" cy="376200"/>
            </a:xfrm>
          </p:grpSpPr>
          <p:sp>
            <p:nvSpPr>
              <p:cNvPr id="210" name=""/>
              <p:cNvSpPr/>
              <p:nvPr/>
            </p:nvSpPr>
            <p:spPr>
              <a:xfrm>
                <a:off x="8085240" y="3005280"/>
                <a:ext cx="62712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pecifi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08920" y="3005280"/>
                <a:ext cx="75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217600" y="1844640"/>
              <a:ext cx="6056280" cy="2037960"/>
              <a:chOff x="2217600" y="1844640"/>
              <a:chExt cx="6056280" cy="20379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99400" y="3429000"/>
                <a:ext cx="1261800" cy="37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rogramm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75280" y="1844640"/>
                <a:ext cx="156204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quirements of a Specific Ap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75400" y="1905120"/>
                <a:ext cx="798480" cy="42696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4 (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13640" y="2589120"/>
                <a:ext cx="1265040" cy="8035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White-box-driv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Instant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30720" y="2276640"/>
                <a:ext cx="12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989760" y="3381120"/>
                <a:ext cx="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46400" y="327672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27840" y="24382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27840" y="2895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84960" y="2286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84960" y="274320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17600" y="2438280"/>
                <a:ext cx="381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2217600" y="3960720"/>
            <a:ext cx="6850080" cy="1695600"/>
            <a:chOff x="2217600" y="3960720"/>
            <a:chExt cx="6850080" cy="1695600"/>
          </a:xfrm>
        </p:grpSpPr>
        <p:grpSp>
          <p:nvGrpSpPr>
            <p:cNvPr id="226" name=""/>
            <p:cNvGrpSpPr/>
            <p:nvPr/>
          </p:nvGrpSpPr>
          <p:grpSpPr>
            <a:xfrm>
              <a:off x="8313840" y="5276880"/>
              <a:ext cx="753840" cy="376200"/>
              <a:chOff x="8313840" y="5276880"/>
              <a:chExt cx="753840" cy="376200"/>
            </a:xfrm>
          </p:grpSpPr>
          <p:sp>
            <p:nvSpPr>
              <p:cNvPr id="227" name=""/>
              <p:cNvSpPr/>
              <p:nvPr/>
            </p:nvSpPr>
            <p:spPr>
              <a:xfrm>
                <a:off x="8372520" y="5276880"/>
                <a:ext cx="62712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pecific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313840" y="5276880"/>
                <a:ext cx="75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217600" y="3960720"/>
              <a:ext cx="6096240" cy="1695600"/>
              <a:chOff x="2217600" y="3960720"/>
              <a:chExt cx="6096240" cy="16956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93920" y="5208480"/>
                <a:ext cx="1346040" cy="28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Pattern Langua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18200" y="4924440"/>
                <a:ext cx="1295640" cy="731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Wizard-driv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Instanti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32400" y="4419720"/>
                <a:ext cx="1632240" cy="37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quirements of a Specific Appl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47040" y="5054760"/>
                <a:ext cx="38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17600" y="5489640"/>
                <a:ext cx="480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99440" y="3960720"/>
                <a:ext cx="838080" cy="474840"/>
              </a:xfrm>
              <a:prstGeom prst="rect">
                <a:avLst/>
              </a:prstGeom>
              <a:solidFill>
                <a:srgbClr val="eae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Times New Roman"/>
                  </a:rPr>
                  <a:t>STEP 4 (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7600" y="47242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2522520" y="1828800"/>
            <a:ext cx="4191120" cy="2630520"/>
            <a:chOff x="2522520" y="1828800"/>
            <a:chExt cx="4191120" cy="2630520"/>
          </a:xfrm>
        </p:grpSpPr>
        <p:grpSp>
          <p:nvGrpSpPr>
            <p:cNvPr id="238" name=""/>
            <p:cNvGrpSpPr/>
            <p:nvPr/>
          </p:nvGrpSpPr>
          <p:grpSpPr>
            <a:xfrm>
              <a:off x="3809520" y="2855880"/>
              <a:ext cx="2904120" cy="1492200"/>
              <a:chOff x="3809520" y="2855880"/>
              <a:chExt cx="2904120" cy="1492200"/>
            </a:xfrm>
          </p:grpSpPr>
          <p:sp>
            <p:nvSpPr>
              <p:cNvPr id="239" name=""/>
              <p:cNvSpPr/>
              <p:nvPr/>
            </p:nvSpPr>
            <p:spPr>
              <a:xfrm>
                <a:off x="4046400" y="434196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35520" y="2855880"/>
                <a:ext cx="1170000" cy="37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"Cookbook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46400" y="3370320"/>
                <a:ext cx="1828800" cy="34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White-box  Frame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46400" y="3274920"/>
                <a:ext cx="0" cy="107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17800" y="3086280"/>
                <a:ext cx="289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809520" y="3276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585880" y="4083120"/>
              <a:ext cx="100332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esign-patterns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metapatter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03400" y="1828800"/>
              <a:ext cx="676440" cy="361800"/>
            </a:xfrm>
            <a:prstGeom prst="rect">
              <a:avLst/>
            </a:prstGeom>
            <a:solidFill>
              <a:srgbClr val="eaef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STE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3400" y="3597120"/>
              <a:ext cx="11178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langu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890800" y="357948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646360" y="3579840"/>
              <a:ext cx="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22520" y="2766960"/>
              <a:ext cx="1363680" cy="822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White-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8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lationship among pattern languages, frameworks, tools and applica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15880" y="2211480"/>
            <a:ext cx="84279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N: Uma linguagem de Padrões para Gestão de Recursos de Negóc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22320" y="401760"/>
            <a:ext cx="728820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80880" y="-11160"/>
            <a:ext cx="8458200" cy="69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11:56:09Z</dcterms:created>
  <dc:creator>Familia Braga</dc:creator>
  <dc:description/>
  <dc:language>en-US</dc:language>
  <cp:lastModifiedBy>ICMC</cp:lastModifiedBy>
  <cp:lastPrinted>2001-08-23T17:00:07Z</cp:lastPrinted>
  <dcterms:modified xsi:type="dcterms:W3CDTF">2002-10-08T13:24:25Z</dcterms:modified>
  <cp:revision>86</cp:revision>
  <dc:subject/>
  <dc:title>The beginning </dc:title>
</cp:coreProperties>
</file>